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191-4B23-40B7-8E29-C4DB2C35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521-EDDA-4D33-85C9-6E137D28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FDD-0A95-46BD-87EF-8F1A11B8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038-685C-4CE1-A66F-911B6CAE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A07-F8C9-4AFE-B7D3-41576101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6CA-2BA6-4FA9-A374-736FEB3F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929-C1D1-4E26-A274-604F90B8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BEC-D5AC-4CF6-851E-C5433D49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42D-6CFF-4D01-BEA8-EF1A3097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F536-6F3C-44C1-A807-294D1E5B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433-C70D-4A54-8B03-6A6587C8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684-81CD-4639-B2A9-06798B0C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8277-48A8-4B53-98CB-380D57E724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tAwMw6tRu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reproductive syste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_x0012_ㇽ皓թ숲"/>
          <p:cNvPicPr/>
          <p:nvPr/>
        </p:nvPicPr>
        <p:blipFill>
          <a:blip r:embed="rId1"/>
          <a:stretch/>
        </p:blipFill>
        <p:spPr>
          <a:xfrm>
            <a:off x="1547640" y="1557360"/>
            <a:ext cx="61930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iclo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emen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50-16"/>
          <p:cNvPicPr/>
          <p:nvPr/>
        </p:nvPicPr>
        <p:blipFill>
          <a:blip r:embed="rId1"/>
          <a:srcRect l="1042" t="0" r="1713" b="0"/>
          <a:stretch/>
        </p:blipFill>
        <p:spPr>
          <a:xfrm>
            <a:off x="2916360" y="0"/>
            <a:ext cx="53276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24000" y="1628640"/>
            <a:ext cx="23763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H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.- Hormona luteinizante: provoca la rotura del folículo con la consiguiente salida del óvu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l folículo vacío se convierte en cuerpo lúteo bajo la influencia de esta horm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FSH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.- Hormona estimulante del folículo: hace que el folículo vaya madura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images-of-human-female-reproductive-system"/>
          <p:cNvPicPr/>
          <p:nvPr/>
        </p:nvPicPr>
        <p:blipFill>
          <a:blip r:embed="rId1"/>
          <a:stretch/>
        </p:blipFill>
        <p:spPr>
          <a:xfrm>
            <a:off x="1116000" y="1349280"/>
            <a:ext cx="6883560" cy="4608720"/>
          </a:xfrm>
          <a:prstGeom prst="rect">
            <a:avLst/>
          </a:prstGeom>
          <a:ln w="0">
            <a:noFill/>
          </a:ln>
        </p:spPr>
      </p:pic>
      <p:sp>
        <p:nvSpPr>
          <p:cNvPr id="44" name="1 Título"/>
          <p:cNvSpPr/>
          <p:nvPr/>
        </p:nvSpPr>
        <p:spPr>
          <a:xfrm>
            <a:off x="755640" y="620640"/>
            <a:ext cx="777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reproductive system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Título"/>
          <p:cNvSpPr/>
          <p:nvPr/>
        </p:nvSpPr>
        <p:spPr>
          <a:xfrm>
            <a:off x="611280" y="620640"/>
            <a:ext cx="79167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reproductive system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rcRect l="1969" t="0" r="0" b="0"/>
          <a:stretch/>
        </p:blipFill>
        <p:spPr>
          <a:xfrm>
            <a:off x="1979640" y="1434960"/>
            <a:ext cx="491184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parato reproductor femen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sistema-reproductor-femenino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parato reproductor femenino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DR650412-750"/>
          <p:cNvPicPr/>
          <p:nvPr/>
        </p:nvPicPr>
        <p:blipFill>
          <a:blip r:embed="rId1"/>
          <a:stretch/>
        </p:blipFill>
        <p:spPr>
          <a:xfrm>
            <a:off x="1835280" y="1127160"/>
            <a:ext cx="5616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parato reproductor femenino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istema+Reproductor+Femenino+y+partes+Aparato+de+costado+3"/>
          <p:cNvPicPr/>
          <p:nvPr/>
        </p:nvPicPr>
        <p:blipFill>
          <a:blip r:embed="rId1"/>
          <a:stretch/>
        </p:blipFill>
        <p:spPr>
          <a:xfrm>
            <a:off x="900000" y="1227240"/>
            <a:ext cx="755964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parato reproductor femenino (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1547640" y="1036800"/>
          <a:ext cx="6048720" cy="56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036800"/>
                    <a:ext cx="6048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parato reproductor femenino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DR0000650434_full"/>
          <p:cNvPicPr/>
          <p:nvPr/>
        </p:nvPicPr>
        <p:blipFill>
          <a:blip r:embed="rId1"/>
          <a:stretch/>
        </p:blipFill>
        <p:spPr>
          <a:xfrm>
            <a:off x="1332000" y="1108080"/>
            <a:ext cx="62643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003400" y="3246480"/>
            <a:ext cx="51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BtAwMw6tR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10:15:05Z</dcterms:created>
  <dc:creator>Rafael</dc:creator>
  <dc:description/>
  <dc:language>en-US</dc:language>
  <cp:lastModifiedBy>Rafael Moreno</cp:lastModifiedBy>
  <dcterms:modified xsi:type="dcterms:W3CDTF">2016-06-12T16:44:05Z</dcterms:modified>
  <cp:revision>6</cp:revision>
  <dc:subject/>
  <dc:title>Aparato reproductor femenino</dc:title>
</cp:coreProperties>
</file>